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C68A3-BD68-4824-97C2-4F49BED9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DC3D9-2316-4DFD-B2B1-A40E39AC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26D4D-023D-4096-A5EC-2C0A611F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7A6A0-581E-4D75-A870-E79C51CF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C5624-29FF-4631-A387-5521D0DD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EC6B2-7910-4E8D-B0B3-6B902B51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40D6C-9DED-43D4-BEBC-15CF5EB1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94E8B-694F-4896-B614-34675793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59F24-E11D-4273-A4CD-CB9288E9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654AE-1904-4C42-9174-52249C28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D3C18-CD66-4ECE-BBF5-CCA9A5D7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C62DF-C5A5-4905-A1FA-C21F711D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86E16-965A-4DD4-B80A-48B36992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295A8-05F5-42C0-AACC-DBC7CB25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7282B-2714-4F62-8D02-5BB1B40D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114F9-71B2-44EF-84B4-743A1163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56E94-5BC9-4E0E-BE43-98960E99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CFBAD-CC12-42E4-A9A2-5A5C020A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9DA5E-6B66-4849-A0F4-F2595B5B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890B1-D2DF-428C-938D-529E7290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631B8-99DE-4619-A7B8-0D46A721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6BAF7-C0B2-4EFA-B522-C3297012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1D3B8-33D8-4FD8-A3C7-DAC0DEF8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0511E-24D8-4E2F-97B0-4406EB62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FB747-2C15-46E3-A61A-C76A601E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3F36CC-68F8-48CA-B40A-C4B6D57B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C440A-E54B-421A-9794-09E42B2C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A1C20-9222-47E2-879C-621C200F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7F3C8-DB96-41A7-9C6F-CEA922BA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F903D-1A02-403F-9E6D-FFBECC75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6B1B2-FD3D-4ADD-9968-D6F6D454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8A3FE-168E-43A4-BB48-59BDB945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28899-78DE-4D37-88AD-2223B88A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32597-785C-4BC2-B979-7739D129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D3AEC2-CB4B-4750-A130-E34BC23E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9AA78-770C-4FA9-9BF2-7491A42A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A30CC-9175-4EB9-8D92-BB44FE26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0E3F6-952E-4D81-B8E3-D8E933ED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31962-6971-49BF-904C-813117C6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5D5B5-761D-44B8-8672-AE195B0D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65EC9-4934-45B7-BD35-C5BA839B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D1EFB-9295-4544-97E9-C0C2CA42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627B8-E1F2-4E5A-8E8A-E93A6379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9D514-D66E-49B0-91AF-B0F9A916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5B7B4-0E18-4628-9533-E072B914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2590D-6EDA-4CBB-B474-CD9D9F33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C3FBA-5929-42C2-A64E-8F4F1F3B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66B02-749E-479C-A866-DC36CE88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C8D3-F95E-4615-BD6E-1F751F04E10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90C4-A710-42DD-8FA2-CD1939604B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D703-9B99-46F3-923B-BC6C8CA368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AA30-DC6D-4AAC-9C26-B074BEFE34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2F9C-A1EB-4E92-B576-FBDAE5B5DEE6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Sistemi Distribuiti: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MI Avanz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26920" y="1413000"/>
            <a:ext cx="14472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istributed Garbage Collector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850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istributed Garbage Collector -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63272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C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3356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CG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407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rface Hel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705636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HelloImpl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HelloImpl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1992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rface Message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8407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ssageObjectImpl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ssageObjectImpl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1447920" y="1484280"/>
            <a:ext cx="64371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087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7610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7610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1763640" y="1370160"/>
            <a:ext cx="655344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Clien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Clien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9832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1476360" y="1438200"/>
            <a:ext cx="705636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ClientSocketFactory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71280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ClientSocketFactory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1514520" y="1341360"/>
            <a:ext cx="67294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Server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7128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ustom RMI 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8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4818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e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467000" y="1268280"/>
            <a:ext cx="72086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 di Custom RMI SocketFac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26436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 di Custom RMI SocketFactory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InputStream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9120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InputStream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5610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OutputStre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1362240" y="1413000"/>
            <a:ext cx="7170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erverSock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2643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ocke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6912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ocke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74167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ClientSocketFactory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840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ClientSocketFactory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1365120" y="1413000"/>
            <a:ext cx="73105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lient che opera dietro un Firew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328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erver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1555920" y="1484280"/>
            <a:ext cx="6832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lient che opera dietro un Firewall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337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irewall sia lato client che lato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9054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irewall sia lato client che lato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1620720" y="1498680"/>
            <a:ext cx="67676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480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istributed Garbage Colle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2007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0:56:09Z</dcterms:modified>
  <cp:revision>67</cp:revision>
  <dc:subject/>
  <dc:title>Diapositiva 1</dc:title>
</cp:coreProperties>
</file>